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breeze.wav" ContentType="audio/x-wav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B6C-EBED-4E6F-A463-7DE6396A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693-FF97-4120-B9A9-7539CD59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819-1C84-4DB7-B7D0-0CD885B2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290-67AC-488B-B10F-A7D949B7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A7A-07BA-4D75-AB44-A816B365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75F-42B2-4ABE-A38D-4CD597F7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999-19B9-4218-A8CC-2F383F16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F35-8368-4EA4-88B4-EECAE37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2EA-BED8-49D5-ADEF-546A9F1F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11D-D3C4-46DF-AF97-BC41901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E74-9FBD-4B65-B6F1-968023D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D42-9961-40AC-8DFC-9CBE67B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2B0-ACEE-4994-A8C2-B0A4DE6F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4" descr=""/>
          <p:cNvPicPr/>
          <p:nvPr/>
        </p:nvPicPr>
        <p:blipFill>
          <a:blip r:embed="rId2"/>
          <a:stretch/>
        </p:blipFill>
        <p:spPr>
          <a:xfrm>
            <a:off x="3060720" y="-100080"/>
            <a:ext cx="302400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101"/>
          <p:cNvSpPr txBox="1"/>
          <p:nvPr/>
        </p:nvSpPr>
        <p:spPr>
          <a:xfrm>
            <a:off x="1403280" y="1268280"/>
            <a:ext cx="662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I'm watching TV.</a:t>
            </a:r>
            <a:endParaRPr b="1" lang="en-US" sz="1800" spc="1" strike="noStrike">
              <a:ln w="9360">
                <a:solidFill>
                  <a:srgbClr val="3333cc"/>
                </a:solidFill>
                <a:round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图片 4104" descr="14"/>
          <p:cNvPicPr/>
          <p:nvPr/>
        </p:nvPicPr>
        <p:blipFill>
          <a:blip r:embed="rId3"/>
          <a:srcRect l="0" t="0" r="0" b="7650"/>
          <a:stretch/>
        </p:blipFill>
        <p:spPr>
          <a:xfrm>
            <a:off x="2195640" y="2924280"/>
            <a:ext cx="496728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3564000" y="2060640"/>
            <a:ext cx="33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标注 9"/>
          <p:cNvSpPr/>
          <p:nvPr/>
        </p:nvSpPr>
        <p:spPr>
          <a:xfrm>
            <a:off x="304920" y="2651040"/>
            <a:ext cx="2743200" cy="1143000"/>
          </a:xfrm>
          <a:prstGeom prst="wedgeRectCallout">
            <a:avLst>
              <a:gd name="adj1" fmla="val 35824"/>
              <a:gd name="adj2" fmla="val 7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you making s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标注 10"/>
          <p:cNvSpPr/>
          <p:nvPr/>
        </p:nvSpPr>
        <p:spPr>
          <a:xfrm>
            <a:off x="5181480" y="3032280"/>
            <a:ext cx="2590920" cy="761760"/>
          </a:xfrm>
          <a:prstGeom prst="wedgeRectCallout">
            <a:avLst>
              <a:gd name="adj1" fmla="val -15379"/>
              <a:gd name="adj2" fmla="val 102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90920" y="276120"/>
            <a:ext cx="63244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c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ake turns 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m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differe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tivities in your group.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thers in the group guess w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activitie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矩形 7" descr=""/>
          <p:cNvPicPr/>
          <p:nvPr/>
        </p:nvPicPr>
        <p:blipFill>
          <a:blip r:embed="rId1"/>
          <a:stretch/>
        </p:blipFill>
        <p:spPr>
          <a:xfrm>
            <a:off x="76320" y="365040"/>
            <a:ext cx="2500200" cy="104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E:\图片库\人物\A0355.tif"/>
          <p:cNvPicPr/>
          <p:nvPr/>
        </p:nvPicPr>
        <p:blipFill>
          <a:blip r:embed="rId2"/>
          <a:stretch/>
        </p:blipFill>
        <p:spPr>
          <a:xfrm>
            <a:off x="2743200" y="4175280"/>
            <a:ext cx="1170000" cy="214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E:\图片库\人物\A0725.tif"/>
          <p:cNvPicPr/>
          <p:nvPr/>
        </p:nvPicPr>
        <p:blipFill>
          <a:blip r:embed="rId3"/>
          <a:stretch/>
        </p:blipFill>
        <p:spPr>
          <a:xfrm>
            <a:off x="3886200" y="4327560"/>
            <a:ext cx="89208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矩形标注 11"/>
          <p:cNvSpPr/>
          <p:nvPr/>
        </p:nvSpPr>
        <p:spPr>
          <a:xfrm>
            <a:off x="3200400" y="2955960"/>
            <a:ext cx="1828800" cy="990720"/>
          </a:xfrm>
          <a:prstGeom prst="wedgeRectCallout">
            <a:avLst>
              <a:gd name="adj1" fmla="val 17013"/>
              <a:gd name="adj2" fmla="val 9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you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标注 12"/>
          <p:cNvSpPr/>
          <p:nvPr/>
        </p:nvSpPr>
        <p:spPr>
          <a:xfrm>
            <a:off x="6324480" y="3946680"/>
            <a:ext cx="2362320" cy="1066680"/>
          </a:xfrm>
          <a:prstGeom prst="wedgeRectCallout">
            <a:avLst>
              <a:gd name="adj1" fmla="val -55240"/>
              <a:gd name="adj2" fmla="val 86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, you’r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D:\红蜻蜓抓图\屏幕截图\截屏055.bmp"/>
          <p:cNvPicPr/>
          <p:nvPr/>
        </p:nvPicPr>
        <p:blipFill>
          <a:blip r:embed="rId4"/>
          <a:stretch/>
        </p:blipFill>
        <p:spPr>
          <a:xfrm>
            <a:off x="5105520" y="4251240"/>
            <a:ext cx="1191960" cy="1752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395280" y="3141720"/>
            <a:ext cx="817236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总结所学过的活动，用英语写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在家里打个电话询问一下你的某个好朋友正在做什么？然后用英语编写成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2556000" y="2205000"/>
            <a:ext cx="4105080" cy="863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Homework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cleaning"/>
          <p:cNvPicPr/>
          <p:nvPr/>
        </p:nvPicPr>
        <p:blipFill>
          <a:blip r:embed="rId2"/>
          <a:stretch/>
        </p:blipFill>
        <p:spPr>
          <a:xfrm>
            <a:off x="179280" y="-100080"/>
            <a:ext cx="21258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:\图片库\动作\3034.tif"/>
          <p:cNvPicPr/>
          <p:nvPr/>
        </p:nvPicPr>
        <p:blipFill>
          <a:blip r:embed="rId3"/>
          <a:stretch/>
        </p:blipFill>
        <p:spPr>
          <a:xfrm>
            <a:off x="6156360" y="44280"/>
            <a:ext cx="2330280" cy="211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talking on the phone"/>
          <p:cNvPicPr/>
          <p:nvPr/>
        </p:nvPicPr>
        <p:blipFill>
          <a:blip r:embed="rId4"/>
          <a:stretch/>
        </p:blipFill>
        <p:spPr>
          <a:xfrm>
            <a:off x="466560" y="2421000"/>
            <a:ext cx="223848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E:\图片库\动作\听音乐2.jpg"/>
          <p:cNvPicPr/>
          <p:nvPr/>
        </p:nvPicPr>
        <p:blipFill>
          <a:blip r:embed="rId5"/>
          <a:srcRect l="0" t="3090" r="0" b="0"/>
          <a:stretch/>
        </p:blipFill>
        <p:spPr>
          <a:xfrm>
            <a:off x="2916360" y="189000"/>
            <a:ext cx="1812960" cy="223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www.sxxxt.cn/newsfiles/jpg/2011-12/20111206092752692.jpg"/>
          <p:cNvPicPr/>
          <p:nvPr/>
        </p:nvPicPr>
        <p:blipFill>
          <a:blip r:embed="rId6"/>
          <a:stretch/>
        </p:blipFill>
        <p:spPr>
          <a:xfrm>
            <a:off x="5867280" y="2276640"/>
            <a:ext cx="2874960" cy="21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://qcyn.sinaimg.cn/2010/1230/U5200P1032DT20101230085408.jpg"/>
          <p:cNvPicPr/>
          <p:nvPr/>
        </p:nvPicPr>
        <p:blipFill>
          <a:blip r:embed="rId7"/>
          <a:stretch/>
        </p:blipFill>
        <p:spPr>
          <a:xfrm>
            <a:off x="5508720" y="4508640"/>
            <a:ext cx="3357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:\图片库\动作\洗碗1.jpg"/>
          <p:cNvPicPr/>
          <p:nvPr/>
        </p:nvPicPr>
        <p:blipFill>
          <a:blip r:embed="rId8"/>
          <a:srcRect l="0" t="3839" r="0" b="0"/>
          <a:stretch/>
        </p:blipFill>
        <p:spPr>
          <a:xfrm>
            <a:off x="2771640" y="4940280"/>
            <a:ext cx="22338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E:\图片库\动作\情境玩电脑.tif"/>
          <p:cNvPicPr/>
          <p:nvPr/>
        </p:nvPicPr>
        <p:blipFill>
          <a:blip r:embed="rId9"/>
          <a:stretch/>
        </p:blipFill>
        <p:spPr>
          <a:xfrm>
            <a:off x="3274920" y="2492280"/>
            <a:ext cx="2232000" cy="206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图片库\动作\3300.tif"/>
          <p:cNvPicPr/>
          <p:nvPr/>
        </p:nvPicPr>
        <p:blipFill>
          <a:blip r:embed="rId10"/>
          <a:stretch/>
        </p:blipFill>
        <p:spPr>
          <a:xfrm>
            <a:off x="34920" y="4724280"/>
            <a:ext cx="2448000" cy="194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25953"/>
          <p:cNvSpPr/>
          <p:nvPr/>
        </p:nvSpPr>
        <p:spPr>
          <a:xfrm>
            <a:off x="76320" y="380880"/>
            <a:ext cx="94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 Look! The cat____________ (run)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 Her parents __________ (take)a walk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 -______he _____ (learn) mat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 It's 6:30 pm. The Greens ___________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your fath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e __________ (read)a newspaper 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25954"/>
          <p:cNvSpPr/>
          <p:nvPr/>
        </p:nvSpPr>
        <p:spPr>
          <a:xfrm>
            <a:off x="3048120" y="6094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is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25955"/>
          <p:cNvSpPr/>
          <p:nvPr/>
        </p:nvSpPr>
        <p:spPr>
          <a:xfrm>
            <a:off x="2666880" y="1295280"/>
            <a:ext cx="32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re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25956"/>
          <p:cNvSpPr/>
          <p:nvPr/>
        </p:nvSpPr>
        <p:spPr>
          <a:xfrm>
            <a:off x="682560" y="198900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Doe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25957"/>
          <p:cNvSpPr/>
          <p:nvPr/>
        </p:nvSpPr>
        <p:spPr>
          <a:xfrm>
            <a:off x="234000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755640" y="42210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is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5200560" y="2782800"/>
            <a:ext cx="21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485640" y="2079720"/>
            <a:ext cx="8023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的那些学生正在外面跑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妈妈在干什么？在厨房煲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老师喜欢早饭前看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没在打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9699"/>
          <p:cNvSpPr/>
          <p:nvPr/>
        </p:nvSpPr>
        <p:spPr>
          <a:xfrm>
            <a:off x="0" y="995400"/>
            <a:ext cx="528480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836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晚上去看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我朋友们出去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三室的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欢饭后喝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9700"/>
          <p:cNvSpPr/>
          <p:nvPr/>
        </p:nvSpPr>
        <p:spPr>
          <a:xfrm>
            <a:off x="1476360" y="1916280"/>
            <a:ext cx="74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the movies tomorrow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9701"/>
          <p:cNvSpPr/>
          <p:nvPr/>
        </p:nvSpPr>
        <p:spPr>
          <a:xfrm>
            <a:off x="1835280" y="2997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t out with my  fri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702"/>
          <p:cNvSpPr/>
          <p:nvPr/>
        </p:nvSpPr>
        <p:spPr>
          <a:xfrm>
            <a:off x="1908000" y="4076640"/>
            <a:ext cx="61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ouse with three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703"/>
          <p:cNvSpPr/>
          <p:nvPr/>
        </p:nvSpPr>
        <p:spPr>
          <a:xfrm>
            <a:off x="981000" y="522936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ke drinking tea after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矩形 26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368520" cy="93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9"/>
          <p:cNvSpPr txBox="1"/>
          <p:nvPr/>
        </p:nvSpPr>
        <p:spPr>
          <a:xfrm>
            <a:off x="2124000" y="33192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Times New Roman"/>
              </a:rPr>
              <a:t>电话用语：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822240" y="1836720"/>
            <a:ext cx="48294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's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at ...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276720" y="1771560"/>
            <a:ext cx="45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3997440" y="299736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谁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4211640" y="407664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吗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609480" y="3394080"/>
            <a:ext cx="76201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ary’s parents/ drink tea/ after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ill/ talk on the phone/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usan and Bob/watch TV / on week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590920" y="7632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e sentences follow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76320" y="270000"/>
            <a:ext cx="2514600" cy="657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Writing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5800" y="1413000"/>
            <a:ext cx="7162920" cy="20437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Jenny/ clean the house/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Jenny is cleaning the hous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ob/ make dinner/ every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ob makes dinner every Saturday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971640" y="3932280"/>
            <a:ext cx="68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ry's parents drink tea after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826920" y="5013360"/>
            <a:ext cx="67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ll is talking on the phon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1054080" y="609300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san and Bob watch TV on week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533520" y="1600200"/>
            <a:ext cx="8076960" cy="477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Do you want to go tomorrow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OK. See you tomorrow ev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I’m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go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No, this book is really interes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Do you want to go to the movi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, what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62120" y="5105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380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6212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2120" y="3886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6212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621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09480" y="380880"/>
            <a:ext cx="83844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57:17Z</dcterms:created>
  <dc:creator/>
  <dc:description/>
  <dc:language>en-US</dc:language>
  <cp:lastModifiedBy>Administrator</cp:lastModifiedBy>
  <dcterms:modified xsi:type="dcterms:W3CDTF">2016-04-20T07:09:53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